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BE1BB-F916-45B3-8CF4-658E22598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14EAA-07BB-470E-BAD8-DB16C0B20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D5982-36A3-44E4-BD06-3C319BD4B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3D223-3AEA-4E61-ADC4-1CDF3A964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B7943-7095-4A33-A0BB-B6D7B3CC0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5747E-6BC6-403D-9369-18A384A89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9E89B-A460-45F0-B19E-984502052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6281A-2983-44BE-BB02-3130E5BAE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F7EF5-2682-4755-9C15-5F8D98D04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7348-112F-4159-855D-0E06699DF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2236-5DA4-42F8-A866-240C6A361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B05B0-AFF5-48FA-AE0E-EB87794E3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E178-9AE8-4079-982F-6EB0D5083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320" y="2579760"/>
            <a:ext cx="4800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type="subTitle"/>
          </p:nvPr>
        </p:nvSpPr>
        <p:spPr>
          <a:xfrm>
            <a:off x="533160" y="1066320"/>
            <a:ext cx="8305560" cy="52578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meur</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umire populara: zmeur, rug de munte</a:t>
            </a:r>
            <a:br>
              <a:rPr sz="1800"/>
            </a:br>
            <a:br>
              <a:rPr sz="1800"/>
            </a:br>
            <a:r>
              <a:rPr b="0" lang="en-US" sz="1800" spc="-1" strike="noStrike">
                <a:solidFill>
                  <a:srgbClr val="000000"/>
                </a:solidFill>
                <a:latin typeface="Arial"/>
              </a:rPr>
              <a:t>Zmeurul este un arbust fructifer cu frunze cazatoare, ce poate atinge inaltimea de 1,5-2m . Frunzele sale sunt de culoare verde, forma palmata si margini zimtate. Florile Zmeurului sunt mici, de culoare alba, planta inflorind in iunie pana in septembrie. Ramurile de Zmeur sunt drepte, arcuite spre varf si acoperite cu tepi ascutiti, dar apar si lastari taratori astfel ca forma generala a arbustului este una de tufa. Fructele Zmeurului sunt de culoare rosie, de dimensiuni diferite (mai mici sau mai mari, de forma semirotunda sau mai alungita- in functie de varietate) foarte aromate si dulci atunci cand sunt coapte, la maturitate. Arbustul produce fructe pe toata durata verii si pana toamna. De curand, exista varietati de Zmeur cu fructul galben, la fel de dulce si aromat precum cel rosu.</a:t>
            </a:r>
            <a:br>
              <a:rPr sz="1800"/>
            </a:br>
            <a:br>
              <a:rPr sz="1800"/>
            </a:br>
            <a:r>
              <a:rPr b="0" lang="en-US" sz="1800" spc="-1" strike="noStrike">
                <a:solidFill>
                  <a:srgbClr val="000000"/>
                </a:solidFill>
                <a:latin typeface="Arial"/>
              </a:rPr>
              <a:t>Zmeurul tolereaza mai multe tipuri de sol, bine drenat, cu pH 5-7, in plin soare; este o planta rezistenta la seceta si la temperaturi scazute si este perfect adaptata la conditiile de clima temperata. Zmeurul este un abust invaziv, astfel ca este necesara tinerea lui sub observatie si monitorizarea permanenta a dimensiunilor sale, daca nu dorim sa ne invadeze toata gradina. Zmeurul se poate toaleta de pana la 3 ori/an, pentru controlul dimensiunilor sale si pentru indepartarea ramurilor uscate. Zmeurul este un arbust autopolenizator.</a:t>
            </a:r>
            <a:endParaRPr b="0" lang="en-US" sz="1800" spc="-1" strike="noStrike">
              <a:solidFill>
                <a:srgbClr val="000000"/>
              </a:solidFill>
              <a:latin typeface="Arial"/>
            </a:endParaRPr>
          </a:p>
        </p:txBody>
      </p:sp>
    </p:spTree>
  </p:cSld>
  <p:transition spd="slow" advTm="15000">
    <p:zoom dir="in"/>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547920"/>
            <a:ext cx="304812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80880" y="512640"/>
            <a:ext cx="8382240" cy="5834160"/>
          </a:xfrm>
          <a:prstGeom prst="rect">
            <a:avLst/>
          </a:prstGeom>
          <a:ln w="0">
            <a:noFill/>
          </a:ln>
        </p:spPr>
      </p:pic>
    </p:spTree>
  </p:cSld>
  <p:transition spd="slow" advTm="15000">
    <p:zoom dir="in"/>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a3</cp:lastModifiedBy>
  <dcterms:modified xsi:type="dcterms:W3CDTF">2012-06-18T10:25:0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